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6.png" ContentType="image/png"/>
  <Override PartName="/ppt/media/image22.jpeg" ContentType="image/jpeg"/>
  <Override PartName="/ppt/media/image9.png" ContentType="image/png"/>
  <Override PartName="/ppt/media/image40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28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FA48-6DCB-409C-897D-51C3A263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357-2BC4-404D-935F-D797E0CF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8A6-A9DC-4410-9D6A-E0669B61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5F5-6EC6-48C9-B46E-8AE3915E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441-677C-4905-9821-637BE49A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996-B1D7-4B4E-BD5D-0678B4CE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AA1-8A2F-4F23-A729-7A1A87C9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B6E-9C2A-4B74-879B-CCE4B5B6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60B-306A-419D-94BD-7AD932DA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98C-8418-4CFB-8DC1-BCA44B0A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304-E0FE-445D-B5E2-8768C033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141D-ED9F-4DEC-A70A-69F84F8F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C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0D8D-914A-4026-9AA3-99E36C6F192D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6" descr=""/>
          <p:cNvPicPr/>
          <p:nvPr/>
        </p:nvPicPr>
        <p:blipFill>
          <a:blip r:embed="rId1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4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688D-5BAF-4B54-85F8-939FD9631F37}" type="slidenum">
              <a:rPr b="0" lang="pl-PL" sz="1200" spc="-1" strike="noStrike">
                <a:solidFill>
                  <a:srgbClr val="898989"/>
                </a:solidFill>
                <a:latin typeface="Times New Roman C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</a:rPr>
              <a:t>KOMUNIKOWANIE SI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45" name="Prostokąt zaokrąglony 10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rostokąt 11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Diagram 13" descr=""/>
          <p:cNvPicPr/>
          <p:nvPr/>
        </p:nvPicPr>
        <p:blipFill>
          <a:blip r:embed="rId3"/>
          <a:stretch/>
        </p:blipFill>
        <p:spPr>
          <a:xfrm>
            <a:off x="1841400" y="1981080"/>
            <a:ext cx="6589800" cy="2487600"/>
          </a:xfrm>
          <a:prstGeom prst="rect">
            <a:avLst/>
          </a:prstGeom>
          <a:ln w="0">
            <a:noFill/>
          </a:ln>
        </p:spPr>
      </p:pic>
      <p:pic>
        <p:nvPicPr>
          <p:cNvPr id="48" name="Obraz 8" descr="naglowek_obowiazujacy_usw kolor"/>
          <p:cNvPicPr/>
          <p:nvPr/>
        </p:nvPicPr>
        <p:blipFill>
          <a:blip r:embed="rId4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upa 19"/>
          <p:cNvGrpSpPr/>
          <p:nvPr/>
        </p:nvGrpSpPr>
        <p:grpSpPr>
          <a:xfrm>
            <a:off x="0" y="260280"/>
            <a:ext cx="8317080" cy="6597720"/>
            <a:chOff x="0" y="260280"/>
            <a:chExt cx="8317080" cy="6597720"/>
          </a:xfrm>
        </p:grpSpPr>
        <p:pic>
          <p:nvPicPr>
            <p:cNvPr id="156" name="Obraz 14" descr="body.jpg"/>
            <p:cNvPicPr/>
            <p:nvPr/>
          </p:nvPicPr>
          <p:blipFill>
            <a:blip r:embed="rId2"/>
            <a:stretch/>
          </p:blipFill>
          <p:spPr>
            <a:xfrm>
              <a:off x="5572080" y="2704320"/>
              <a:ext cx="2535840" cy="415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Prostokąt 12"/>
            <p:cNvSpPr/>
            <p:nvPr/>
          </p:nvSpPr>
          <p:spPr>
            <a:xfrm>
              <a:off x="0" y="260280"/>
              <a:ext cx="83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ak rozpoznać zachowania uległe?</a:t>
              </a:r>
              <a:r>
                <a:rPr b="0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rostokąt zaokrąglony 17"/>
          <p:cNvSpPr/>
          <p:nvPr/>
        </p:nvSpPr>
        <p:spPr>
          <a:xfrm>
            <a:off x="250920" y="3141720"/>
            <a:ext cx="5005440" cy="208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Osoby uległe</a:t>
            </a:r>
            <a:r>
              <a:rPr b="0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n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a wszystkie prośby odpowiadają: „tak”, „OK”, „nie ma sprawy”, i starają się podawać najbliższe termi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 pytanie: „co o tym myślisz?”, odpowiadają: „to nieważne”, „ważne, co ty myślisz”. W rozmowie używają sformułowań typu: „wiesz, to znaczy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rostokąt zaokrąglony 18"/>
          <p:cNvSpPr/>
          <p:nvPr/>
        </p:nvSpPr>
        <p:spPr>
          <a:xfrm>
            <a:off x="324000" y="907920"/>
            <a:ext cx="777708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Osoby uległe</a:t>
            </a:r>
            <a:r>
              <a:rPr b="0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gą przyjmować postawę przygarbioną z ramionami wysuniętymi do przodu lub niedbałą, opierając się o coś. Mówią cicho, ze spuszczoną głową, uciekając wzrokiem, często mówią niezrozumiale albo milczą. Zachowują wobec innych duży dystans. Uścisk dłoni szybki z wycofaniem. Przyjmują postawę zamkniętą ze skrzyżowanymi nogami i ręk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61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rostokąt 14"/>
          <p:cNvSpPr/>
          <p:nvPr/>
        </p:nvSpPr>
        <p:spPr>
          <a:xfrm>
            <a:off x="0" y="40464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ak rozpoznać zachowania agresywne?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upa 21"/>
          <p:cNvGrpSpPr/>
          <p:nvPr/>
        </p:nvGrpSpPr>
        <p:grpSpPr>
          <a:xfrm>
            <a:off x="324000" y="1341360"/>
            <a:ext cx="7416720" cy="4751640"/>
            <a:chOff x="324000" y="1341360"/>
            <a:chExt cx="7416720" cy="4751640"/>
          </a:xfrm>
        </p:grpSpPr>
        <p:pic>
          <p:nvPicPr>
            <p:cNvPr id="168" name="Obraz 19" descr="angry.jpg"/>
            <p:cNvPicPr/>
            <p:nvPr/>
          </p:nvPicPr>
          <p:blipFill>
            <a:blip r:embed="rId2"/>
            <a:stretch/>
          </p:blipFill>
          <p:spPr>
            <a:xfrm>
              <a:off x="324000" y="2273760"/>
              <a:ext cx="2314080" cy="29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Prostokąt zaokrąglony 20"/>
            <p:cNvSpPr/>
            <p:nvPr/>
          </p:nvSpPr>
          <p:spPr>
            <a:xfrm>
              <a:off x="2705040" y="1341360"/>
              <a:ext cx="5035680" cy="475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soby, które przyjmują </a:t>
              </a:r>
              <a:r>
                <a:rPr b="1" lang="pl-PL" sz="1800" spc="-1" strike="noStrike">
                  <a:solidFill>
                    <a:srgbClr val="7d60a0"/>
                  </a:solidFill>
                  <a:latin typeface="Times New Roman CE"/>
                  <a:ea typeface="Times New Roman"/>
                </a:rPr>
                <a:t>postawę agresywną,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manifestują siłę i przewagę nad ludźmi, stosując sarkazm, krzyk, chłodny stosunek i dystans. Aby podnosić swoją wartość, poniżają innych i wzbudzają w nich poczucie winy. Nie odnoszą się do konkretnych sytuacji, ale używają uogólnień typu: nigdy, zawsze. Fizycznie gesty i ruchy ciała osób agresywnych są sztywne i nagłe bądź nonszalanckie i obojętne. Siedząc, przyjmują pozycję z rozstawionymi stopami. Wyrażając opinie, ręce opierają o biodra albo machają zaciśniętą ręką lub sztywną otwartą dłonią. Mówiąc, mają często zaciśnięte szczęki i przymrużone powiek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71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braz 28" descr="6494392133_6b5eee558d_m.jpg"/>
          <p:cNvPicPr/>
          <p:nvPr/>
        </p:nvPicPr>
        <p:blipFill>
          <a:blip r:embed="rId1"/>
          <a:stretch/>
        </p:blipFill>
        <p:spPr>
          <a:xfrm>
            <a:off x="5867280" y="2565360"/>
            <a:ext cx="2952720" cy="2951280"/>
          </a:xfrm>
          <a:prstGeom prst="rect">
            <a:avLst/>
          </a:prstGeom>
          <a:ln w="0">
            <a:noFill/>
          </a:ln>
        </p:spPr>
      </p:pic>
      <p:sp>
        <p:nvSpPr>
          <p:cNvPr id="174" name="Prostokąt 15"/>
          <p:cNvSpPr/>
          <p:nvPr/>
        </p:nvSpPr>
        <p:spPr>
          <a:xfrm>
            <a:off x="250920" y="260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laczego zachowanie asertywne jest dobre?</a:t>
            </a:r>
            <a:r>
              <a:rPr b="0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upa 32"/>
          <p:cNvGrpSpPr/>
          <p:nvPr/>
        </p:nvGrpSpPr>
        <p:grpSpPr>
          <a:xfrm>
            <a:off x="324000" y="1052640"/>
            <a:ext cx="7488000" cy="504720"/>
            <a:chOff x="324000" y="1052640"/>
            <a:chExt cx="7488000" cy="504720"/>
          </a:xfrm>
        </p:grpSpPr>
        <p:pic>
          <p:nvPicPr>
            <p:cNvPr id="179" name="Objaśnienie prostokątne zaokrąglone 16" descr=""/>
            <p:cNvPicPr/>
            <p:nvPr/>
          </p:nvPicPr>
          <p:blipFill>
            <a:blip r:embed="rId3"/>
            <a:stretch/>
          </p:blipFill>
          <p:spPr>
            <a:xfrm>
              <a:off x="324000" y="1052640"/>
              <a:ext cx="7488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Prostokąt 17"/>
            <p:cNvSpPr/>
            <p:nvPr/>
          </p:nvSpPr>
          <p:spPr>
            <a:xfrm>
              <a:off x="426240" y="1090800"/>
              <a:ext cx="721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jest sobą i nie pozwala innym kierować swoim życie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upa 35"/>
          <p:cNvGrpSpPr/>
          <p:nvPr/>
        </p:nvGrpSpPr>
        <p:grpSpPr>
          <a:xfrm>
            <a:off x="324000" y="4581360"/>
            <a:ext cx="5256000" cy="1015560"/>
            <a:chOff x="324000" y="4581360"/>
            <a:chExt cx="5256000" cy="1015560"/>
          </a:xfrm>
        </p:grpSpPr>
        <p:pic>
          <p:nvPicPr>
            <p:cNvPr id="182" name="Objaśnienie prostokątne zaokrąglone 18" descr=""/>
            <p:cNvPicPr/>
            <p:nvPr/>
          </p:nvPicPr>
          <p:blipFill>
            <a:blip r:embed="rId4"/>
            <a:stretch/>
          </p:blipFill>
          <p:spPr>
            <a:xfrm>
              <a:off x="324000" y="4581360"/>
              <a:ext cx="525600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Prostokąt 19"/>
            <p:cNvSpPr/>
            <p:nvPr/>
          </p:nvSpPr>
          <p:spPr>
            <a:xfrm>
              <a:off x="412200" y="4680000"/>
              <a:ext cx="438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dokonuje wyborów zgodnie z własnymi potrzebami, nie ulegając presji otoczen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upa 33"/>
          <p:cNvGrpSpPr/>
          <p:nvPr/>
        </p:nvGrpSpPr>
        <p:grpSpPr>
          <a:xfrm>
            <a:off x="250920" y="2205000"/>
            <a:ext cx="5545080" cy="941040"/>
            <a:chOff x="250920" y="2205000"/>
            <a:chExt cx="5545080" cy="941040"/>
          </a:xfrm>
        </p:grpSpPr>
        <p:pic>
          <p:nvPicPr>
            <p:cNvPr id="185" name="Objaśnienie prostokątne zaokrąglone 20" descr=""/>
            <p:cNvPicPr/>
            <p:nvPr/>
          </p:nvPicPr>
          <p:blipFill>
            <a:blip r:embed="rId5"/>
            <a:stretch/>
          </p:blipFill>
          <p:spPr>
            <a:xfrm>
              <a:off x="250920" y="2205000"/>
              <a:ext cx="554508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Prostokąt 21"/>
            <p:cNvSpPr/>
            <p:nvPr/>
          </p:nvSpPr>
          <p:spPr>
            <a:xfrm>
              <a:off x="406080" y="2229120"/>
              <a:ext cx="4592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ma świadomość swoich wad i zalet, a w związku z tym  podejmuje wyzwania, którym jest w stanie sprostać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upa 34"/>
          <p:cNvGrpSpPr/>
          <p:nvPr/>
        </p:nvGrpSpPr>
        <p:grpSpPr>
          <a:xfrm>
            <a:off x="250920" y="3573360"/>
            <a:ext cx="5329080" cy="946080"/>
            <a:chOff x="250920" y="3573360"/>
            <a:chExt cx="5329080" cy="946080"/>
          </a:xfrm>
        </p:grpSpPr>
        <p:pic>
          <p:nvPicPr>
            <p:cNvPr id="188" name="Objaśnienie prostokątne zaokrąglone 23" descr=""/>
            <p:cNvPicPr/>
            <p:nvPr/>
          </p:nvPicPr>
          <p:blipFill>
            <a:blip r:embed="rId6"/>
            <a:stretch/>
          </p:blipFill>
          <p:spPr>
            <a:xfrm>
              <a:off x="280800" y="3573360"/>
              <a:ext cx="52992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Prostokąt 24"/>
            <p:cNvSpPr/>
            <p:nvPr/>
          </p:nvSpPr>
          <p:spPr>
            <a:xfrm>
              <a:off x="250920" y="3602520"/>
              <a:ext cx="4488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akceptuje siebie takim, jakim jest, i bierze odpowiedzialność za swoje życi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upa 36"/>
          <p:cNvGrpSpPr/>
          <p:nvPr/>
        </p:nvGrpSpPr>
        <p:grpSpPr>
          <a:xfrm>
            <a:off x="2771640" y="5950080"/>
            <a:ext cx="4572000" cy="980640"/>
            <a:chOff x="2771640" y="5950080"/>
            <a:chExt cx="4572000" cy="980640"/>
          </a:xfrm>
        </p:grpSpPr>
        <p:pic>
          <p:nvPicPr>
            <p:cNvPr id="191" name="Objaśnienie prostokątne zaokrąglone 26" descr=""/>
            <p:cNvPicPr/>
            <p:nvPr/>
          </p:nvPicPr>
          <p:blipFill>
            <a:blip r:embed="rId7"/>
            <a:stretch/>
          </p:blipFill>
          <p:spPr>
            <a:xfrm>
              <a:off x="2883240" y="5950080"/>
              <a:ext cx="4309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Prostokąt 27"/>
            <p:cNvSpPr/>
            <p:nvPr/>
          </p:nvSpPr>
          <p:spPr>
            <a:xfrm>
              <a:off x="2771640" y="628812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Człowiek asertywny rozwija swoje zdolności i stara się walczyć z wadam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94" name="pole tekstowe 24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Obraz 10" descr="sowa_1-komunikowanie sie.png"/>
            <p:cNvPicPr/>
            <p:nvPr/>
          </p:nvPicPr>
          <p:blipFill>
            <a:blip r:embed="rId8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rostokąt 11"/>
          <p:cNvSpPr/>
          <p:nvPr/>
        </p:nvSpPr>
        <p:spPr>
          <a:xfrm>
            <a:off x="468360" y="33336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chowania asertywne, uległe i agresywne różnią się przede wszystkim w zakresie poszanowania praw naszych i innych ludz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rostokąt 12"/>
          <p:cNvSpPr/>
          <p:nvPr/>
        </p:nvSpPr>
        <p:spPr>
          <a:xfrm>
            <a:off x="900000" y="177336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d60a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postawa agresywna – nie szanuję praw in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13"/>
          <p:cNvSpPr/>
          <p:nvPr/>
        </p:nvSpPr>
        <p:spPr>
          <a:xfrm>
            <a:off x="900000" y="105264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d60a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postawa asertywna – szanuję prawa swoje i in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rostokąt 14"/>
          <p:cNvSpPr/>
          <p:nvPr/>
        </p:nvSpPr>
        <p:spPr>
          <a:xfrm>
            <a:off x="900000" y="1413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d60a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postawa uległa – nie szanuję własnych pra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upa 26"/>
          <p:cNvGrpSpPr/>
          <p:nvPr/>
        </p:nvGrpSpPr>
        <p:grpSpPr>
          <a:xfrm>
            <a:off x="0" y="2421000"/>
            <a:ext cx="4140360" cy="1728720"/>
            <a:chOff x="0" y="2421000"/>
            <a:chExt cx="4140360" cy="1728720"/>
          </a:xfrm>
        </p:grpSpPr>
        <p:grpSp>
          <p:nvGrpSpPr>
            <p:cNvPr id="204" name="Grupa 25"/>
            <p:cNvGrpSpPr/>
            <p:nvPr/>
          </p:nvGrpSpPr>
          <p:grpSpPr>
            <a:xfrm>
              <a:off x="329040" y="2421000"/>
              <a:ext cx="3591000" cy="1113840"/>
              <a:chOff x="329040" y="2421000"/>
              <a:chExt cx="3591000" cy="1113840"/>
            </a:xfrm>
          </p:grpSpPr>
          <p:sp>
            <p:nvSpPr>
              <p:cNvPr id="205" name="Prostokąt zaokrąglony 19"/>
              <p:cNvSpPr/>
              <p:nvPr/>
            </p:nvSpPr>
            <p:spPr>
              <a:xfrm>
                <a:off x="329040" y="2421000"/>
                <a:ext cx="3591000" cy="11138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7d60a0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Prostokąt 21"/>
              <p:cNvSpPr/>
              <p:nvPr/>
            </p:nvSpPr>
            <p:spPr>
              <a:xfrm>
                <a:off x="329400" y="2489760"/>
                <a:ext cx="348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potrafią odmawiać oraz nie ulegają presji otoczenia.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Diagram 23" descr=""/>
            <p:cNvPicPr/>
            <p:nvPr/>
          </p:nvPicPr>
          <p:blipFill>
            <a:blip r:embed="rId2"/>
            <a:stretch/>
          </p:blipFill>
          <p:spPr>
            <a:xfrm>
              <a:off x="0" y="3489480"/>
              <a:ext cx="4140360" cy="66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upa 27"/>
          <p:cNvGrpSpPr/>
          <p:nvPr/>
        </p:nvGrpSpPr>
        <p:grpSpPr>
          <a:xfrm>
            <a:off x="1547640" y="4941720"/>
            <a:ext cx="4140360" cy="1727280"/>
            <a:chOff x="1547640" y="4941720"/>
            <a:chExt cx="4140360" cy="1727280"/>
          </a:xfrm>
        </p:grpSpPr>
        <p:grpSp>
          <p:nvGrpSpPr>
            <p:cNvPr id="209" name="Grupa 25"/>
            <p:cNvGrpSpPr/>
            <p:nvPr/>
          </p:nvGrpSpPr>
          <p:grpSpPr>
            <a:xfrm>
              <a:off x="1876680" y="4941720"/>
              <a:ext cx="3590640" cy="1113480"/>
              <a:chOff x="1876680" y="4941720"/>
              <a:chExt cx="3590640" cy="1113480"/>
            </a:xfrm>
          </p:grpSpPr>
          <p:sp>
            <p:nvSpPr>
              <p:cNvPr id="210" name="Prostokąt zaokrąglony 30"/>
              <p:cNvSpPr/>
              <p:nvPr/>
            </p:nvSpPr>
            <p:spPr>
              <a:xfrm>
                <a:off x="1876680" y="4941720"/>
                <a:ext cx="3590640" cy="1113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7d60a0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Prostokąt 31"/>
              <p:cNvSpPr/>
              <p:nvPr/>
            </p:nvSpPr>
            <p:spPr>
              <a:xfrm>
                <a:off x="1877040" y="5010480"/>
                <a:ext cx="3481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ciągle drżą o swoją reputację i akceptację otocze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2" name="Diagram 29" descr=""/>
            <p:cNvPicPr/>
            <p:nvPr/>
          </p:nvPicPr>
          <p:blipFill>
            <a:blip r:embed="rId3"/>
            <a:stretch/>
          </p:blipFill>
          <p:spPr>
            <a:xfrm>
              <a:off x="1547640" y="6013800"/>
              <a:ext cx="4140360" cy="65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upa 32"/>
          <p:cNvGrpSpPr/>
          <p:nvPr/>
        </p:nvGrpSpPr>
        <p:grpSpPr>
          <a:xfrm>
            <a:off x="3995640" y="2997360"/>
            <a:ext cx="4140360" cy="1726920"/>
            <a:chOff x="3995640" y="2997360"/>
            <a:chExt cx="4140360" cy="1726920"/>
          </a:xfrm>
        </p:grpSpPr>
        <p:grpSp>
          <p:nvGrpSpPr>
            <p:cNvPr id="214" name="Grupa 25"/>
            <p:cNvGrpSpPr/>
            <p:nvPr/>
          </p:nvGrpSpPr>
          <p:grpSpPr>
            <a:xfrm>
              <a:off x="4326840" y="2997360"/>
              <a:ext cx="3585600" cy="1113120"/>
              <a:chOff x="4326840" y="2997360"/>
              <a:chExt cx="3585600" cy="1113120"/>
            </a:xfrm>
          </p:grpSpPr>
          <p:sp>
            <p:nvSpPr>
              <p:cNvPr id="215" name="Prostokąt zaokrąglony 35"/>
              <p:cNvSpPr/>
              <p:nvPr/>
            </p:nvSpPr>
            <p:spPr>
              <a:xfrm>
                <a:off x="4326840" y="2997360"/>
                <a:ext cx="3585600" cy="1113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7d60a0"/>
                </a:solidFill>
                <a:miter/>
              </a:ln>
              <a:effectLst>
                <a:outerShdw dist="15375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Prostokąt 36"/>
              <p:cNvSpPr/>
              <p:nvPr/>
            </p:nvSpPr>
            <p:spPr>
              <a:xfrm>
                <a:off x="4327200" y="3066120"/>
                <a:ext cx="347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 CE"/>
                    <a:ea typeface="Times New Roman"/>
                  </a:rPr>
                  <a:t>są w fazie ciągłego udowadniania sobie i innym, jakie są dobre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7" name="Diagram 34" descr=""/>
            <p:cNvPicPr/>
            <p:nvPr/>
          </p:nvPicPr>
          <p:blipFill>
            <a:blip r:embed="rId4"/>
            <a:stretch/>
          </p:blipFill>
          <p:spPr>
            <a:xfrm>
              <a:off x="3995640" y="4069440"/>
              <a:ext cx="4140360" cy="65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19" name="pole tekstowe 2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1"/>
          <p:cNvSpPr/>
          <p:nvPr/>
        </p:nvSpPr>
        <p:spPr>
          <a:xfrm>
            <a:off x="395280" y="1304640"/>
            <a:ext cx="4897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dnym z ważniejszych elementów asertywności jest prawo do odmowy. Dlaczego tak trudno jest odmawiać innym? Często czujemy dyskomfort, zwracając się z prośbą do innych osób, a jeszcze większe zakłopotanie wzbudza w nas odmowa. Odmowa często powoduje u innych wybuch agresji czy żalu. Wypowiadanie słowa „nie” jest trudne i wymaga uruchomienia postawy asertyw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upa 21"/>
          <p:cNvGrpSpPr/>
          <p:nvPr/>
        </p:nvGrpSpPr>
        <p:grpSpPr>
          <a:xfrm>
            <a:off x="5435640" y="765000"/>
            <a:ext cx="2881440" cy="4967640"/>
            <a:chOff x="5435640" y="765000"/>
            <a:chExt cx="2881440" cy="4967640"/>
          </a:xfrm>
        </p:grpSpPr>
        <p:pic>
          <p:nvPicPr>
            <p:cNvPr id="226" name="Obraz 19" descr="5520346692_70effdda6c_m.jpg"/>
            <p:cNvPicPr/>
            <p:nvPr/>
          </p:nvPicPr>
          <p:blipFill>
            <a:blip r:embed="rId2"/>
            <a:srcRect l="20276" t="0" r="21752" b="0"/>
            <a:stretch/>
          </p:blipFill>
          <p:spPr>
            <a:xfrm>
              <a:off x="5435640" y="765000"/>
              <a:ext cx="2881440" cy="49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ole tekstowe 20" descr=""/>
            <p:cNvPicPr/>
            <p:nvPr/>
          </p:nvPicPr>
          <p:blipFill>
            <a:blip r:embed="rId3"/>
            <a:stretch/>
          </p:blipFill>
          <p:spPr>
            <a:xfrm>
              <a:off x="6272640" y="877320"/>
              <a:ext cx="182268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Prostokąt 22"/>
          <p:cNvSpPr/>
          <p:nvPr/>
        </p:nvSpPr>
        <p:spPr>
          <a:xfrm>
            <a:off x="0" y="47628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Umiejętność mówienia „ni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30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rostokąt 11"/>
          <p:cNvSpPr/>
          <p:nvPr/>
        </p:nvSpPr>
        <p:spPr>
          <a:xfrm>
            <a:off x="0" y="26028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ak odmawiać, żeby nie urazić innyc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upa 25"/>
          <p:cNvGrpSpPr/>
          <p:nvPr/>
        </p:nvGrpSpPr>
        <p:grpSpPr>
          <a:xfrm>
            <a:off x="324000" y="2205000"/>
            <a:ext cx="3600360" cy="1870200"/>
            <a:chOff x="324000" y="2205000"/>
            <a:chExt cx="3600360" cy="1870200"/>
          </a:xfrm>
        </p:grpSpPr>
        <p:sp>
          <p:nvSpPr>
            <p:cNvPr id="237" name="Prostokąt zaokrąglony 16"/>
            <p:cNvSpPr/>
            <p:nvPr/>
          </p:nvSpPr>
          <p:spPr>
            <a:xfrm>
              <a:off x="324000" y="2205000"/>
              <a:ext cx="3600360" cy="187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Prostokąt 17"/>
            <p:cNvSpPr/>
            <p:nvPr/>
          </p:nvSpPr>
          <p:spPr>
            <a:xfrm>
              <a:off x="396000" y="2349000"/>
              <a:ext cx="3490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ażne jest, aby tak sformułować odmowę, żeby wskazywała, że nie spełniamy prośby, a nie negatywnie odnosimy się do osoby formułującej prośbę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upa 25"/>
          <p:cNvGrpSpPr/>
          <p:nvPr/>
        </p:nvGrpSpPr>
        <p:grpSpPr>
          <a:xfrm>
            <a:off x="1476360" y="4508640"/>
            <a:ext cx="4022640" cy="2089080"/>
            <a:chOff x="1476360" y="4508640"/>
            <a:chExt cx="4022640" cy="2089080"/>
          </a:xfrm>
        </p:grpSpPr>
        <p:sp>
          <p:nvSpPr>
            <p:cNvPr id="240" name="Prostokąt zaokrąglony 19"/>
            <p:cNvSpPr/>
            <p:nvPr/>
          </p:nvSpPr>
          <p:spPr>
            <a:xfrm>
              <a:off x="1476360" y="4508640"/>
              <a:ext cx="4022640" cy="2089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Prostokąt 20"/>
            <p:cNvSpPr/>
            <p:nvPr/>
          </p:nvSpPr>
          <p:spPr>
            <a:xfrm>
              <a:off x="1548360" y="4652640"/>
              <a:ext cx="3900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Nie mów „nie mogę”, kiedy tak naprawdę nie chcesz. Po pierwsze to nieuczciwe, a po drugie nadużywanie zwrotu „nie mogę” może w dłuższej perspektywie obniżyć naszą samoocenę – słowa mają ogromną mo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upa 22"/>
          <p:cNvGrpSpPr/>
          <p:nvPr/>
        </p:nvGrpSpPr>
        <p:grpSpPr>
          <a:xfrm>
            <a:off x="468360" y="765000"/>
            <a:ext cx="7367400" cy="3624480"/>
            <a:chOff x="468360" y="765000"/>
            <a:chExt cx="7367400" cy="3624480"/>
          </a:xfrm>
        </p:grpSpPr>
        <p:sp>
          <p:nvSpPr>
            <p:cNvPr id="243" name="Prostokąt 12"/>
            <p:cNvSpPr/>
            <p:nvPr/>
          </p:nvSpPr>
          <p:spPr>
            <a:xfrm>
              <a:off x="468360" y="765000"/>
              <a:ext cx="6836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kuteczna odmowa powinna zawierać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 CE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łowo „nie”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 CE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nformację, czego nie zrobimy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Times New Roman CE"/>
                <a:buChar char="•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informację, dlaczego tego nie zrobimy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Obraz 21" descr="3467933395_823a6f6836_m.jpg"/>
            <p:cNvPicPr/>
            <p:nvPr/>
          </p:nvPicPr>
          <p:blipFill>
            <a:blip r:embed="rId2"/>
            <a:stretch/>
          </p:blipFill>
          <p:spPr>
            <a:xfrm>
              <a:off x="4777200" y="1333800"/>
              <a:ext cx="3058560" cy="305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46" name="pole tekstowe 17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upa 21"/>
          <p:cNvGrpSpPr/>
          <p:nvPr/>
        </p:nvGrpSpPr>
        <p:grpSpPr>
          <a:xfrm>
            <a:off x="179280" y="189000"/>
            <a:ext cx="8317080" cy="6669000"/>
            <a:chOff x="179280" y="189000"/>
            <a:chExt cx="8317080" cy="6669000"/>
          </a:xfrm>
        </p:grpSpPr>
        <p:pic>
          <p:nvPicPr>
            <p:cNvPr id="249" name="Obraz 17" descr="sad4.jpg"/>
            <p:cNvPicPr/>
            <p:nvPr/>
          </p:nvPicPr>
          <p:blipFill>
            <a:blip r:embed="rId1"/>
            <a:srcRect l="3380" t="1102" r="3513" b="0"/>
            <a:stretch/>
          </p:blipFill>
          <p:spPr>
            <a:xfrm>
              <a:off x="4500000" y="2565000"/>
              <a:ext cx="3816720" cy="429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Prostokąt 14"/>
            <p:cNvSpPr/>
            <p:nvPr/>
          </p:nvSpPr>
          <p:spPr>
            <a:xfrm>
              <a:off x="179280" y="189000"/>
              <a:ext cx="831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Radzenie sobie z krytyk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1"/>
          <p:cNvSpPr/>
          <p:nvPr/>
        </p:nvSpPr>
        <p:spPr>
          <a:xfrm>
            <a:off x="179280" y="7441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kt nie lubi być krytykowany, ponieważ utożsamiamy krytykę z odrzuceniem. Słysząc krytykę, jedni z nas spuszczają głowę i milczą (postawa uległa), inni wybuchają gniewem, odpowiadają krytyką, sarkazmem lub złośliwością (postawa agresyw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rostokąt 18"/>
          <p:cNvSpPr/>
          <p:nvPr/>
        </p:nvSpPr>
        <p:spPr>
          <a:xfrm>
            <a:off x="179280" y="2708280"/>
            <a:ext cx="4464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W pierwszym przypadku tłumimy w sobie emocje, co prowadzi do narastających pretensji i w efekcie sprawia, że ograniczamy nasze kontakty z inną osobą. W drugim przypadku to najprawdopodobniej ta druga osoba zacznie nas unika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5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250920" y="3590280"/>
            <a:ext cx="763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iedy usłyszysz krytykę, która jest zasadna, po prostu zgódź się z osobą krytykującą. Nie szukaj wymówek, usprawiedliwiaj się tylko wtedy, gdy sytuacja tego wymaga ( np. gdy spóźnisz się do szkoły). Konstruktywna krytyka może pomóc ci w samodoskonaleniu się, nie warto więc jej zaprzeczać. Jeżeli natomiast ktoś po prostu, z sobie znanego tylko powodu, postanowił wytknąć nam błąd, nasza zgoda ucina rozmow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rostokąt 15"/>
          <p:cNvSpPr/>
          <p:nvPr/>
        </p:nvSpPr>
        <p:spPr>
          <a:xfrm>
            <a:off x="250920" y="126828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ajważniejszą, ale też najtrudniejszą kwestią jest powstrzymanie swoich emocji. Skup się, skoncentruj na treści przekazu, obiektywnie oceń, czy krytyka nie jest zasadna, zastanów się nad intencjami osoby krytykującej się i oczywiście zachowaj spokó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upa 17"/>
          <p:cNvGrpSpPr/>
          <p:nvPr/>
        </p:nvGrpSpPr>
        <p:grpSpPr>
          <a:xfrm>
            <a:off x="0" y="404640"/>
            <a:ext cx="8317080" cy="2971800"/>
            <a:chOff x="0" y="404640"/>
            <a:chExt cx="8317080" cy="2971800"/>
          </a:xfrm>
        </p:grpSpPr>
        <p:sp>
          <p:nvSpPr>
            <p:cNvPr id="265" name="Prostokąt 14"/>
            <p:cNvSpPr/>
            <p:nvPr/>
          </p:nvSpPr>
          <p:spPr>
            <a:xfrm>
              <a:off x="0" y="404640"/>
              <a:ext cx="831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ak radzić sobie asertywnie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pl-PL" sz="24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z krytyką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Obraz 16" descr="gesty33.jpg"/>
            <p:cNvPicPr/>
            <p:nvPr/>
          </p:nvPicPr>
          <p:blipFill>
            <a:blip r:embed="rId2"/>
            <a:stretch/>
          </p:blipFill>
          <p:spPr>
            <a:xfrm>
              <a:off x="4852440" y="1263240"/>
              <a:ext cx="3328560" cy="211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68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rostokąt 15"/>
          <p:cNvSpPr/>
          <p:nvPr/>
        </p:nvSpPr>
        <p:spPr>
          <a:xfrm>
            <a:off x="250920" y="14842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kład: 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„Nigdy się nie uczysz, więc na pewno nie zdasz egzaminu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rostokąt 16"/>
          <p:cNvSpPr/>
          <p:nvPr/>
        </p:nvSpPr>
        <p:spPr>
          <a:xfrm rot="16200000">
            <a:off x="-1742040" y="369468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ożliwe asertywne odpowiedz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upa 25"/>
          <p:cNvGrpSpPr/>
          <p:nvPr/>
        </p:nvGrpSpPr>
        <p:grpSpPr>
          <a:xfrm>
            <a:off x="179280" y="260280"/>
            <a:ext cx="7993080" cy="936720"/>
            <a:chOff x="179280" y="260280"/>
            <a:chExt cx="7993080" cy="936720"/>
          </a:xfrm>
        </p:grpSpPr>
        <p:sp>
          <p:nvSpPr>
            <p:cNvPr id="276" name="Prostokąt zaokrąglony 18"/>
            <p:cNvSpPr/>
            <p:nvPr/>
          </p:nvSpPr>
          <p:spPr>
            <a:xfrm>
              <a:off x="271080" y="260280"/>
              <a:ext cx="7901280" cy="93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Prostokąt 19"/>
            <p:cNvSpPr/>
            <p:nvPr/>
          </p:nvSpPr>
          <p:spPr>
            <a:xfrm>
              <a:off x="179280" y="260280"/>
              <a:ext cx="7717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7d60a0"/>
                  </a:solidFill>
                  <a:latin typeface="Times New Roman CE"/>
                  <a:ea typeface="Times New Roman"/>
                </a:rPr>
                <a:t>Technika zamglenia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lega na zgodzeniu się z jakimś elementem stwierdzenia (takim, który uznajemy za prawdziwy) oraz zignorowaniu elementów pozostałych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Grupa 23" descr=""/>
          <p:cNvPicPr/>
          <p:nvPr/>
        </p:nvPicPr>
        <p:blipFill>
          <a:blip r:embed="rId2"/>
          <a:stretch/>
        </p:blipFill>
        <p:spPr>
          <a:xfrm>
            <a:off x="950760" y="3267000"/>
            <a:ext cx="7169400" cy="1328760"/>
          </a:xfrm>
          <a:prstGeom prst="rect">
            <a:avLst/>
          </a:prstGeom>
          <a:ln w="0">
            <a:noFill/>
          </a:ln>
        </p:spPr>
      </p:pic>
      <p:pic>
        <p:nvPicPr>
          <p:cNvPr id="279" name="Grupa 24" descr=""/>
          <p:cNvPicPr/>
          <p:nvPr/>
        </p:nvPicPr>
        <p:blipFill>
          <a:blip r:embed="rId3"/>
          <a:stretch/>
        </p:blipFill>
        <p:spPr>
          <a:xfrm>
            <a:off x="950760" y="2041560"/>
            <a:ext cx="7193160" cy="1042920"/>
          </a:xfrm>
          <a:prstGeom prst="rect">
            <a:avLst/>
          </a:prstGeom>
          <a:ln w="0">
            <a:noFill/>
          </a:ln>
        </p:spPr>
      </p:pic>
      <p:pic>
        <p:nvPicPr>
          <p:cNvPr id="280" name="Grupa 27" descr=""/>
          <p:cNvPicPr/>
          <p:nvPr/>
        </p:nvPicPr>
        <p:blipFill>
          <a:blip r:embed="rId4"/>
          <a:stretch/>
        </p:blipFill>
        <p:spPr>
          <a:xfrm>
            <a:off x="950760" y="4780080"/>
            <a:ext cx="7169400" cy="1334880"/>
          </a:xfrm>
          <a:prstGeom prst="rect">
            <a:avLst/>
          </a:prstGeom>
          <a:ln w="0">
            <a:noFill/>
          </a:ln>
        </p:spPr>
      </p:pic>
      <p:grpSp>
        <p:nvGrpSpPr>
          <p:cNvPr id="281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282" name="pole tekstowe 2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upa 31"/>
          <p:cNvGrpSpPr/>
          <p:nvPr/>
        </p:nvGrpSpPr>
        <p:grpSpPr>
          <a:xfrm>
            <a:off x="468360" y="1557360"/>
            <a:ext cx="8064360" cy="5064120"/>
            <a:chOff x="468360" y="1557360"/>
            <a:chExt cx="8064360" cy="5064120"/>
          </a:xfrm>
        </p:grpSpPr>
        <p:pic>
          <p:nvPicPr>
            <p:cNvPr id="285" name="Obraz 30" descr="3588562936_ae6f4c98dd_m.jpg"/>
            <p:cNvPicPr/>
            <p:nvPr/>
          </p:nvPicPr>
          <p:blipFill>
            <a:blip r:embed="rId1"/>
            <a:srcRect l="21259" t="0" r="24401" b="0"/>
            <a:stretch/>
          </p:blipFill>
          <p:spPr>
            <a:xfrm>
              <a:off x="6228720" y="2411640"/>
              <a:ext cx="2304000" cy="42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Prostokąt 15"/>
            <p:cNvSpPr/>
            <p:nvPr/>
          </p:nvSpPr>
          <p:spPr>
            <a:xfrm>
              <a:off x="468360" y="1557360"/>
              <a:ext cx="65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W takiej sytuacji zareaguj spokojnie, nie podnosząc głosu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8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rostokąt 14"/>
          <p:cNvSpPr/>
          <p:nvPr/>
        </p:nvSpPr>
        <p:spPr>
          <a:xfrm>
            <a:off x="250920" y="33336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Co zrobić w sytuacji agresywnej krytyki (osoba krytykująca wrzeszczy, używa obraźliwych słów, robi sarkastyczne uwagi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upa 25"/>
          <p:cNvGrpSpPr/>
          <p:nvPr/>
        </p:nvGrpSpPr>
        <p:grpSpPr>
          <a:xfrm>
            <a:off x="971640" y="2205000"/>
            <a:ext cx="5329080" cy="370800"/>
            <a:chOff x="971640" y="2205000"/>
            <a:chExt cx="5329080" cy="370800"/>
          </a:xfrm>
        </p:grpSpPr>
        <p:sp>
          <p:nvSpPr>
            <p:cNvPr id="292" name="Prostokąt zaokrąglony 17"/>
            <p:cNvSpPr/>
            <p:nvPr/>
          </p:nvSpPr>
          <p:spPr>
            <a:xfrm>
              <a:off x="971640" y="2205000"/>
              <a:ext cx="5329080" cy="35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Prostokąt 18"/>
            <p:cNvSpPr/>
            <p:nvPr/>
          </p:nvSpPr>
          <p:spPr>
            <a:xfrm>
              <a:off x="971640" y="2207520"/>
              <a:ext cx="51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Nie życzę sobie abyś na mnie krzyczał(a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upa 25"/>
          <p:cNvGrpSpPr/>
          <p:nvPr/>
        </p:nvGrpSpPr>
        <p:grpSpPr>
          <a:xfrm>
            <a:off x="971640" y="2924280"/>
            <a:ext cx="5329080" cy="370800"/>
            <a:chOff x="971640" y="2924280"/>
            <a:chExt cx="5329080" cy="370800"/>
          </a:xfrm>
        </p:grpSpPr>
        <p:sp>
          <p:nvSpPr>
            <p:cNvPr id="295" name="Prostokąt zaokrąglony 20"/>
            <p:cNvSpPr/>
            <p:nvPr/>
          </p:nvSpPr>
          <p:spPr>
            <a:xfrm>
              <a:off x="971640" y="2924280"/>
              <a:ext cx="5329080" cy="36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Prostokąt 21"/>
            <p:cNvSpPr/>
            <p:nvPr/>
          </p:nvSpPr>
          <p:spPr>
            <a:xfrm>
              <a:off x="971640" y="2926800"/>
              <a:ext cx="51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Słowa, których używasz, obrażają mni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upa 25"/>
          <p:cNvGrpSpPr/>
          <p:nvPr/>
        </p:nvGrpSpPr>
        <p:grpSpPr>
          <a:xfrm>
            <a:off x="971640" y="3645000"/>
            <a:ext cx="5329080" cy="370800"/>
            <a:chOff x="971640" y="3645000"/>
            <a:chExt cx="5329080" cy="370800"/>
          </a:xfrm>
        </p:grpSpPr>
        <p:sp>
          <p:nvSpPr>
            <p:cNvPr id="298" name="Prostokąt zaokrąglony 23"/>
            <p:cNvSpPr/>
            <p:nvPr/>
          </p:nvSpPr>
          <p:spPr>
            <a:xfrm>
              <a:off x="971640" y="3645000"/>
              <a:ext cx="5329080" cy="35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Prostokąt 24"/>
            <p:cNvSpPr/>
            <p:nvPr/>
          </p:nvSpPr>
          <p:spPr>
            <a:xfrm>
              <a:off x="971640" y="3647520"/>
              <a:ext cx="51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wiedz wprost, co masz mi do powiedzen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upa 25"/>
          <p:cNvGrpSpPr/>
          <p:nvPr/>
        </p:nvGrpSpPr>
        <p:grpSpPr>
          <a:xfrm>
            <a:off x="971640" y="4292640"/>
            <a:ext cx="5329080" cy="718920"/>
            <a:chOff x="971640" y="4292640"/>
            <a:chExt cx="5329080" cy="718920"/>
          </a:xfrm>
        </p:grpSpPr>
        <p:sp>
          <p:nvSpPr>
            <p:cNvPr id="301" name="Prostokąt zaokrąglony 27"/>
            <p:cNvSpPr/>
            <p:nvPr/>
          </p:nvSpPr>
          <p:spPr>
            <a:xfrm>
              <a:off x="971640" y="4292640"/>
              <a:ext cx="5329080" cy="71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Prostokąt 28"/>
            <p:cNvSpPr/>
            <p:nvPr/>
          </p:nvSpPr>
          <p:spPr>
            <a:xfrm>
              <a:off x="971640" y="4298040"/>
              <a:ext cx="516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Odejdź, jeżeli nie jesteś w stanie wpłynąć na zmianę zachowania takiej osob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304" name="pole tekstowe 22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Obraz 15" descr="megafon3.jpg"/>
          <p:cNvPicPr/>
          <p:nvPr/>
        </p:nvPicPr>
        <p:blipFill>
          <a:blip r:embed="rId2"/>
          <a:stretch/>
        </p:blipFill>
        <p:spPr>
          <a:xfrm>
            <a:off x="5292720" y="3284640"/>
            <a:ext cx="30481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3" name="Grupa 8"/>
          <p:cNvGrpSpPr/>
          <p:nvPr/>
        </p:nvGrpSpPr>
        <p:grpSpPr>
          <a:xfrm>
            <a:off x="250920" y="404640"/>
            <a:ext cx="4537080" cy="4048200"/>
            <a:chOff x="250920" y="404640"/>
            <a:chExt cx="4537080" cy="4048200"/>
          </a:xfrm>
        </p:grpSpPr>
        <p:grpSp>
          <p:nvGrpSpPr>
            <p:cNvPr id="54" name="Objaśnienie owalne 16"/>
            <p:cNvGrpSpPr/>
            <p:nvPr/>
          </p:nvGrpSpPr>
          <p:grpSpPr>
            <a:xfrm>
              <a:off x="250920" y="404640"/>
              <a:ext cx="4537080" cy="3961080"/>
              <a:chOff x="250920" y="404640"/>
              <a:chExt cx="4537080" cy="3961080"/>
            </a:xfrm>
          </p:grpSpPr>
          <p:pic>
            <p:nvPicPr>
              <p:cNvPr id="55" name="Objaśnienie owaln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920" y="404640"/>
                <a:ext cx="4537080" cy="39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783720" y="1009080"/>
                <a:ext cx="2456640" cy="27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Prostokąt 11"/>
            <p:cNvGrpSpPr/>
            <p:nvPr/>
          </p:nvGrpSpPr>
          <p:grpSpPr>
            <a:xfrm>
              <a:off x="647640" y="987480"/>
              <a:ext cx="2670120" cy="3465360"/>
              <a:chOff x="647640" y="987480"/>
              <a:chExt cx="2670120" cy="3465360"/>
            </a:xfrm>
          </p:grpSpPr>
          <p:pic>
            <p:nvPicPr>
              <p:cNvPr id="58" name="Prostokąt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47640" y="987480"/>
                <a:ext cx="2670120" cy="254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660600" y="1004760"/>
                <a:ext cx="2647080" cy="344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7d60a0"/>
                    </a:solidFill>
                    <a:latin typeface="Times New Roman CE"/>
                    <a:ea typeface="Times New Roman CE"/>
                  </a:rPr>
                  <a:t>Asertywność</a:t>
                </a:r>
                <a:r>
                  <a:rPr b="0" lang="pl-PL" sz="2000" spc="-1" strike="noStrike">
                    <a:solidFill>
                      <a:srgbClr val="000000"/>
                    </a:solidFill>
                    <a:latin typeface="Times New Roman CE"/>
                    <a:ea typeface="Times New Roman CE"/>
                  </a:rPr>
                  <a:t> to umiejętność, której można się nauczyć i która zawiera w sobie również zdolność do rozpoznawania sytuacji, w których powinniśmy zachować się w sposób asertywny, a w których w sposób uległy lub agresywny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61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Obraz 10" descr="sowa_1-komunikowanie sie.png"/>
            <p:cNvPicPr/>
            <p:nvPr/>
          </p:nvPicPr>
          <p:blipFill>
            <a:blip r:embed="rId5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971640" y="4800960"/>
            <a:ext cx="71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Każdy ma prawo do własnego zdania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a mam inne zdanie na swój temat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 CE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woja opinia na mój temat diametralnie różni się od mojej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0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upa 18"/>
          <p:cNvGrpSpPr/>
          <p:nvPr/>
        </p:nvGrpSpPr>
        <p:grpSpPr>
          <a:xfrm>
            <a:off x="324000" y="476280"/>
            <a:ext cx="7875360" cy="4199040"/>
            <a:chOff x="324000" y="476280"/>
            <a:chExt cx="7875360" cy="4199040"/>
          </a:xfrm>
        </p:grpSpPr>
        <p:pic>
          <p:nvPicPr>
            <p:cNvPr id="311" name="Obraz 17" descr="idiot3.jpg"/>
            <p:cNvPicPr/>
            <p:nvPr/>
          </p:nvPicPr>
          <p:blipFill>
            <a:blip r:embed="rId2"/>
            <a:stretch/>
          </p:blipFill>
          <p:spPr>
            <a:xfrm>
              <a:off x="4428360" y="1484640"/>
              <a:ext cx="3771000" cy="31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Prostokąt 14"/>
            <p:cNvSpPr/>
            <p:nvPr/>
          </p:nvSpPr>
          <p:spPr>
            <a:xfrm>
              <a:off x="324000" y="476280"/>
              <a:ext cx="777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eżeli krytyka jest personalna (zmienia się w obrażanie), zastosuj jedną z technik asertywnego radzenia sobie z krytyką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Prostokąt 15"/>
          <p:cNvSpPr/>
          <p:nvPr/>
        </p:nvSpPr>
        <p:spPr>
          <a:xfrm>
            <a:off x="324000" y="1989000"/>
            <a:ext cx="52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ykład: kiedy ktoś mów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„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eś idiotą”, możesz odpowiedzie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315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Obraz 12" descr="sen4.jpg"/>
          <p:cNvPicPr/>
          <p:nvPr/>
        </p:nvPicPr>
        <p:blipFill>
          <a:blip r:embed="rId1"/>
          <a:stretch/>
        </p:blipFill>
        <p:spPr>
          <a:xfrm>
            <a:off x="0" y="2762280"/>
            <a:ext cx="5256360" cy="4095720"/>
          </a:xfrm>
          <a:prstGeom prst="rect">
            <a:avLst/>
          </a:prstGeom>
          <a:ln w="0">
            <a:noFill/>
          </a:ln>
        </p:spPr>
      </p:pic>
      <p:grpSp>
        <p:nvGrpSpPr>
          <p:cNvPr id="31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1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upa 14"/>
          <p:cNvGrpSpPr/>
          <p:nvPr/>
        </p:nvGrpSpPr>
        <p:grpSpPr>
          <a:xfrm>
            <a:off x="3419640" y="260280"/>
            <a:ext cx="4824360" cy="3240000"/>
            <a:chOff x="3419640" y="260280"/>
            <a:chExt cx="4824360" cy="3240000"/>
          </a:xfrm>
        </p:grpSpPr>
        <p:sp>
          <p:nvSpPr>
            <p:cNvPr id="322" name="Objaśnienie w chmurce 13"/>
            <p:cNvSpPr/>
            <p:nvPr/>
          </p:nvSpPr>
          <p:spPr>
            <a:xfrm>
              <a:off x="3419640" y="260280"/>
              <a:ext cx="4824360" cy="3240000"/>
            </a:xfrm>
            <a:prstGeom prst="cloudCallout">
              <a:avLst>
                <a:gd name="adj1" fmla="val -99449"/>
                <a:gd name="adj2" fmla="val 32041"/>
              </a:avLst>
            </a:prstGeom>
            <a:solidFill>
              <a:srgbClr val="cc99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"/>
            <p:cNvSpPr/>
            <p:nvPr/>
          </p:nvSpPr>
          <p:spPr>
            <a:xfrm>
              <a:off x="3923640" y="924120"/>
              <a:ext cx="4032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Asertywność to umiejętność, o której marzy większość z nas. Niestety, jej nabycie wymaga wielu ćwiczeń i determinacji. Nie jest to łatwe, ale warto spróbować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325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6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upa 12"/>
          <p:cNvGrpSpPr/>
          <p:nvPr/>
        </p:nvGrpSpPr>
        <p:grpSpPr>
          <a:xfrm>
            <a:off x="179280" y="260280"/>
            <a:ext cx="7848720" cy="6372360"/>
            <a:chOff x="179280" y="260280"/>
            <a:chExt cx="7848720" cy="6372360"/>
          </a:xfrm>
        </p:grpSpPr>
        <p:sp>
          <p:nvSpPr>
            <p:cNvPr id="67" name="Prostokąt 5"/>
            <p:cNvSpPr/>
            <p:nvPr/>
          </p:nvSpPr>
          <p:spPr>
            <a:xfrm>
              <a:off x="179280" y="260280"/>
              <a:ext cx="7842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1" lang="pl-PL" sz="2000" spc="-1" strike="noStrike">
                  <a:solidFill>
                    <a:srgbClr val="7d60a0"/>
                  </a:solidFill>
                  <a:latin typeface="Times New Roman CE"/>
                  <a:ea typeface="Times New Roman CE"/>
                </a:rPr>
                <a:t>Postawa asertywna</a:t>
              </a:r>
              <a:r>
                <a:rPr b="0" lang="pl-PL" sz="2000" spc="-1" strike="noStrike">
                  <a:solidFill>
                    <a:srgbClr val="7d60a0"/>
                  </a:solidFill>
                  <a:latin typeface="Times New Roman CE"/>
                  <a:ea typeface="Times New Roman CE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o umiejętność dochodzenia swoich praw oraz zdolność do wyrażania własnych myśli, uczuć i poglądów w sposób otwarty, szczery i adekwatny, nienaruszający prawa innych ludzi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(A.J. Lange, P. Jakubowsk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Obraz 8" descr="6338155470_45225d28f6_m.jpg"/>
            <p:cNvPicPr/>
            <p:nvPr/>
          </p:nvPicPr>
          <p:blipFill>
            <a:blip r:embed="rId2"/>
            <a:stretch/>
          </p:blipFill>
          <p:spPr>
            <a:xfrm>
              <a:off x="5061600" y="4281840"/>
              <a:ext cx="2966400" cy="23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rostokąt 9"/>
          <p:cNvSpPr/>
          <p:nvPr/>
        </p:nvSpPr>
        <p:spPr>
          <a:xfrm>
            <a:off x="1547640" y="263700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upa 13"/>
          <p:cNvGrpSpPr/>
          <p:nvPr/>
        </p:nvGrpSpPr>
        <p:grpSpPr>
          <a:xfrm>
            <a:off x="395280" y="2205000"/>
            <a:ext cx="5256360" cy="2683080"/>
            <a:chOff x="395280" y="2205000"/>
            <a:chExt cx="5256360" cy="2683080"/>
          </a:xfrm>
        </p:grpSpPr>
        <p:sp>
          <p:nvSpPr>
            <p:cNvPr id="71" name="Prostokąt zaokrąglony 10"/>
            <p:cNvSpPr/>
            <p:nvPr/>
          </p:nvSpPr>
          <p:spPr>
            <a:xfrm>
              <a:off x="395280" y="2205000"/>
              <a:ext cx="5256360" cy="189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pole tekstowe 11"/>
            <p:cNvGrpSpPr/>
            <p:nvPr/>
          </p:nvGrpSpPr>
          <p:grpSpPr>
            <a:xfrm>
              <a:off x="1206720" y="4010400"/>
              <a:ext cx="4127040" cy="877680"/>
              <a:chOff x="1206720" y="4010400"/>
              <a:chExt cx="4127040" cy="877680"/>
            </a:xfrm>
          </p:grpSpPr>
          <p:pic>
            <p:nvPicPr>
              <p:cNvPr id="73" name="pole tekstow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206720" y="4010400"/>
                <a:ext cx="4127040" cy="87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1258920" y="4101120"/>
                <a:ext cx="370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8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 </a:t>
                </a:r>
                <a:r>
                  <a:rPr b="1" lang="pl-PL" sz="28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Osoba asertyw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rostokąt 14"/>
          <p:cNvSpPr/>
          <p:nvPr/>
        </p:nvSpPr>
        <p:spPr>
          <a:xfrm>
            <a:off x="684360" y="2276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287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twarcie i stosownie do okoliczności   wyraża własne myśli, opinie i uczuc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4560" indent="-287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ierze odpowiedzialność za swoje słowa i działa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4560" indent="-287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zanuje siebie i innych ludz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4560" indent="-287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łucha tego, co mają do powiedzenia inni ludz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77" name="pole tekstowe 15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raz 10" descr="4961461045_6215e09694_m.jpg"/>
          <p:cNvPicPr/>
          <p:nvPr/>
        </p:nvPicPr>
        <p:blipFill>
          <a:blip r:embed="rId1"/>
          <a:stretch/>
        </p:blipFill>
        <p:spPr>
          <a:xfrm>
            <a:off x="5508720" y="2637000"/>
            <a:ext cx="3003480" cy="4005000"/>
          </a:xfrm>
          <a:prstGeom prst="rect">
            <a:avLst/>
          </a:prstGeom>
          <a:ln w="0">
            <a:noFill/>
          </a:ln>
        </p:spPr>
      </p:pic>
      <p:grpSp>
        <p:nvGrpSpPr>
          <p:cNvPr id="8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81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2"/>
          <p:cNvSpPr/>
          <p:nvPr/>
        </p:nvSpPr>
        <p:spPr>
          <a:xfrm>
            <a:off x="250920" y="1857960"/>
            <a:ext cx="813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miany zdania bez konieczności nadmiernego usprawiedliwiania si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pełniania błęd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ówienia „nie wiem”, „nie rozumiem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oszenia o to, na czym jej zależ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ówienia „nie” bez poczucia wi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szacunku innych ludz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ego, żeby ją wysłuchano i traktowano poważni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zależnoś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ążenia do sukcesu i odnoszenia sukces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dbania o własne potrz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rostokąt 8"/>
          <p:cNvSpPr/>
          <p:nvPr/>
        </p:nvSpPr>
        <p:spPr>
          <a:xfrm>
            <a:off x="0" y="18900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awa asertyw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rostokąt 9"/>
          <p:cNvSpPr/>
          <p:nvPr/>
        </p:nvSpPr>
        <p:spPr>
          <a:xfrm>
            <a:off x="0" y="1052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oba asertywna ma świadomość swoich praw, a w szczególności prawa 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87" name="pole tekstowe 11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16"/>
          <p:cNvGrpSpPr/>
          <p:nvPr/>
        </p:nvGrpSpPr>
        <p:grpSpPr>
          <a:xfrm>
            <a:off x="1908000" y="3068640"/>
            <a:ext cx="6193080" cy="3024360"/>
            <a:chOff x="1908000" y="3068640"/>
            <a:chExt cx="6193080" cy="3024360"/>
          </a:xfrm>
        </p:grpSpPr>
        <p:sp>
          <p:nvSpPr>
            <p:cNvPr id="93" name="Prostokąt zaokrąglony 8"/>
            <p:cNvSpPr/>
            <p:nvPr/>
          </p:nvSpPr>
          <p:spPr>
            <a:xfrm>
              <a:off x="1908000" y="3068640"/>
              <a:ext cx="6193080" cy="2113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pole tekstowe 9"/>
            <p:cNvGrpSpPr/>
            <p:nvPr/>
          </p:nvGrpSpPr>
          <p:grpSpPr>
            <a:xfrm>
              <a:off x="3078360" y="5114880"/>
              <a:ext cx="4127040" cy="978120"/>
              <a:chOff x="3078360" y="5114880"/>
              <a:chExt cx="4127040" cy="978120"/>
            </a:xfrm>
          </p:grpSpPr>
          <p:pic>
            <p:nvPicPr>
              <p:cNvPr id="95" name="pole tekstow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8360" y="5114880"/>
                <a:ext cx="4127040" cy="97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3132000" y="5182200"/>
                <a:ext cx="3702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ffffff"/>
                    </a:solidFill>
                    <a:latin typeface="Times New Roman CE"/>
                    <a:ea typeface="Times New Roman"/>
                  </a:rPr>
                  <a:t>Osoba uległ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ffffff"/>
                    </a:solidFill>
                    <a:latin typeface="Times New Roman CE"/>
                    <a:ea typeface="Times New Roman"/>
                  </a:rPr>
                  <a:t>(pasywna, bierna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upa 11"/>
          <p:cNvGrpSpPr/>
          <p:nvPr/>
        </p:nvGrpSpPr>
        <p:grpSpPr>
          <a:xfrm>
            <a:off x="179280" y="404640"/>
            <a:ext cx="7705800" cy="4670640"/>
            <a:chOff x="179280" y="404640"/>
            <a:chExt cx="7705800" cy="4670640"/>
          </a:xfrm>
        </p:grpSpPr>
        <p:pic>
          <p:nvPicPr>
            <p:cNvPr id="98" name="Obraz 12" descr="3026027962_94e4413b08_m.jpg"/>
            <p:cNvPicPr/>
            <p:nvPr/>
          </p:nvPicPr>
          <p:blipFill>
            <a:blip r:embed="rId3"/>
            <a:stretch/>
          </p:blipFill>
          <p:spPr>
            <a:xfrm>
              <a:off x="179280" y="1989000"/>
              <a:ext cx="1440000" cy="30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Prostokąt 10"/>
            <p:cNvSpPr/>
            <p:nvPr/>
          </p:nvSpPr>
          <p:spPr>
            <a:xfrm>
              <a:off x="323280" y="404640"/>
              <a:ext cx="7561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„</a:t>
              </a:r>
              <a:r>
                <a:rPr b="1" lang="pl-PL" sz="2000" spc="-1" strike="noStrike">
                  <a:solidFill>
                    <a:srgbClr val="7d60a0"/>
                  </a:solidFill>
                  <a:latin typeface="Times New Roman CE"/>
                  <a:ea typeface="Times New Roman"/>
                </a:rPr>
                <a:t>Postawa uległa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lega na naruszaniu swoich praw poprzez nieumiejętność wyrażania własnych uczuć, myśli i poglądów i w konsekwencji na pozwalaniu, aby inni te prawa również naruszali”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(A.J. Lange, P. Jakubowsk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rostokąt 15"/>
          <p:cNvSpPr/>
          <p:nvPr/>
        </p:nvSpPr>
        <p:spPr>
          <a:xfrm>
            <a:off x="1763640" y="2924280"/>
            <a:ext cx="66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21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wyraża własnych myśli, opinii i uczu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rzerzuca odpowiedzialność za swoje życie na osoby trzec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szanuje sieb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dporządkowuje swoje potrzeby potrzebom in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potrafi odmawia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 wszystko przeprasz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15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est niepewna sieb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02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upa 8"/>
          <p:cNvGrpSpPr/>
          <p:nvPr/>
        </p:nvGrpSpPr>
        <p:grpSpPr>
          <a:xfrm>
            <a:off x="0" y="256680"/>
            <a:ext cx="8317080" cy="6601320"/>
            <a:chOff x="0" y="256680"/>
            <a:chExt cx="8317080" cy="6601320"/>
          </a:xfrm>
        </p:grpSpPr>
        <p:sp>
          <p:nvSpPr>
            <p:cNvPr id="108" name="Rectangle 1"/>
            <p:cNvSpPr/>
            <p:nvPr/>
          </p:nvSpPr>
          <p:spPr>
            <a:xfrm>
              <a:off x="0" y="256680"/>
              <a:ext cx="831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Uległoś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Obraz 13" descr="4642106133_8c9bf67132_m.jpg"/>
            <p:cNvPicPr/>
            <p:nvPr/>
          </p:nvPicPr>
          <p:blipFill>
            <a:blip r:embed="rId2"/>
            <a:stretch/>
          </p:blipFill>
          <p:spPr>
            <a:xfrm>
              <a:off x="5148360" y="3809880"/>
              <a:ext cx="3048120" cy="304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rostokąt zaokrąglony 14"/>
          <p:cNvSpPr/>
          <p:nvPr/>
        </p:nvSpPr>
        <p:spPr>
          <a:xfrm>
            <a:off x="468360" y="1125360"/>
            <a:ext cx="5472000" cy="352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woduje u innych przekonanie, że mogą postępować wobec nas według własnego uznania, bo nie usłyszą sprzeciwu. To inni ludzie dokonują wyborów i podejmują decyzje za osoby uległe. Odbija się to na życiu osobistym i zawodowym osoby pasywnej. Osoby takie są często pomijane przy awansach, łamane są wobec nich prawa pracownicze, obarczane są najgorszymi zadaniami. Wreszcie najczęściej zwalniani z pracy są ludzie ulegli, bo szefowie firm wiedzą, że nie spotkają się ze sprzeciwem i nie będą mieli kłopot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12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1"/>
          <p:cNvSpPr/>
          <p:nvPr/>
        </p:nvSpPr>
        <p:spPr>
          <a:xfrm>
            <a:off x="6948360" y="4786200"/>
            <a:ext cx="56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-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8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Postawa agresyw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upa 13"/>
          <p:cNvGrpSpPr/>
          <p:nvPr/>
        </p:nvGrpSpPr>
        <p:grpSpPr>
          <a:xfrm>
            <a:off x="324000" y="1125360"/>
            <a:ext cx="7127640" cy="5064480"/>
            <a:chOff x="324000" y="1125360"/>
            <a:chExt cx="7127640" cy="5064480"/>
          </a:xfrm>
        </p:grpSpPr>
        <p:sp>
          <p:nvSpPr>
            <p:cNvPr id="120" name="Prostokąt zaokrąglony 9"/>
            <p:cNvSpPr/>
            <p:nvPr/>
          </p:nvSpPr>
          <p:spPr>
            <a:xfrm>
              <a:off x="900000" y="1125360"/>
              <a:ext cx="6551640" cy="1655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„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polega na dochodzeniu swoich praw oraz wyrażaniu własnych myśli, uczuć i przekonań w sposób, który jest często nieuczciwy, na ogół niestosowny i zawsze naruszający prawa innych”. (A.J. Lange, P. Jakubowsk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Obraz 10" descr="zly.jpg"/>
            <p:cNvPicPr/>
            <p:nvPr/>
          </p:nvPicPr>
          <p:blipFill>
            <a:blip r:embed="rId2"/>
            <a:stretch/>
          </p:blipFill>
          <p:spPr>
            <a:xfrm>
              <a:off x="324000" y="3141720"/>
              <a:ext cx="3047400" cy="304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Prostokąt 14"/>
          <p:cNvSpPr/>
          <p:nvPr/>
        </p:nvSpPr>
        <p:spPr>
          <a:xfrm>
            <a:off x="3980880" y="321300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oba agresyw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rostokąt zaokrąglony 15"/>
          <p:cNvSpPr/>
          <p:nvPr/>
        </p:nvSpPr>
        <p:spPr>
          <a:xfrm>
            <a:off x="3851280" y="3789360"/>
            <a:ext cx="280836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zawsze mówi, co myś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rostokąt zaokrąglony 16"/>
          <p:cNvSpPr/>
          <p:nvPr/>
        </p:nvSpPr>
        <p:spPr>
          <a:xfrm>
            <a:off x="3851280" y="4653000"/>
            <a:ext cx="373680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słucha tego, co mówią inni, bo i tak to ona ma zawsze 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rostokąt zaokrąglony 17"/>
          <p:cNvSpPr/>
          <p:nvPr/>
        </p:nvSpPr>
        <p:spPr>
          <a:xfrm>
            <a:off x="3780000" y="5516640"/>
            <a:ext cx="410508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d60a0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nie zawraca sobie głowy potrzebami i uczuciami innych osó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27" name="pole tekstowe 19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Obraz 12" descr="megafon4.jpg"/>
          <p:cNvPicPr/>
          <p:nvPr/>
        </p:nvPicPr>
        <p:blipFill>
          <a:blip r:embed="rId2"/>
          <a:srcRect l="0" t="15249" r="0" b="14267"/>
          <a:stretch/>
        </p:blipFill>
        <p:spPr>
          <a:xfrm>
            <a:off x="1835280" y="4724280"/>
            <a:ext cx="51688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33" name="Grupa 13"/>
          <p:cNvGrpSpPr/>
          <p:nvPr/>
        </p:nvGrpSpPr>
        <p:grpSpPr>
          <a:xfrm>
            <a:off x="539640" y="549360"/>
            <a:ext cx="7272360" cy="3897360"/>
            <a:chOff x="539640" y="549360"/>
            <a:chExt cx="7272360" cy="3897360"/>
          </a:xfrm>
        </p:grpSpPr>
        <p:grpSp>
          <p:nvGrpSpPr>
            <p:cNvPr id="134" name="pole tekstowe 8"/>
            <p:cNvGrpSpPr/>
            <p:nvPr/>
          </p:nvGrpSpPr>
          <p:grpSpPr>
            <a:xfrm>
              <a:off x="2499120" y="3706200"/>
              <a:ext cx="4133160" cy="740520"/>
              <a:chOff x="2499120" y="3706200"/>
              <a:chExt cx="4133160" cy="740520"/>
            </a:xfrm>
          </p:grpSpPr>
          <p:pic>
            <p:nvPicPr>
              <p:cNvPr id="135" name="pole tekstow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499120" y="3706200"/>
                <a:ext cx="4133160" cy="74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2555280" y="3772080"/>
                <a:ext cx="370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ffffff"/>
                    </a:solidFill>
                    <a:latin typeface="Times New Roman CE"/>
                    <a:ea typeface="Times New Roman"/>
                  </a:rPr>
                  <a:t>Osoba agresyw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Prostokąt zaokrąglony 9"/>
            <p:cNvSpPr/>
            <p:nvPr/>
          </p:nvSpPr>
          <p:spPr>
            <a:xfrm>
              <a:off x="539640" y="549360"/>
              <a:ext cx="7272360" cy="322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7d60a0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rostokąt 10"/>
          <p:cNvSpPr/>
          <p:nvPr/>
        </p:nvSpPr>
        <p:spPr>
          <a:xfrm>
            <a:off x="611280" y="76500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Osoby agresywne nastawione są na własne korzyści, nawet jeśli dzieje się to kosztem innych ludzi. Osoby agresywne idą po trupach do celu i często zmuszają innych do zmiany decyz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Myśli czy życzenia wypowiadają z pewnością siebie i sugerują nieomylność. Są wyniosłe i nie znoszą sprzeciwu. Jeżeli o coś pytają, to i tak mają gotową odpowiedź. Nie interesują ich uczucia i myśli innych ludzi. Często podkreślają własne zasługi. Paradoksalnie agresywne zachowania wynikają najczęściej z braku pewności siebie i niskiej samooceny. Osoba agresywna pragnie doskonałości, nie uznaje błędów, słabości i porażek – dlatego często ma zaniżoną samoocenę, a za własne błędy obwinia innyc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40" name="pole tekstowe 13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Obraz 10" descr="sowa_1-komunikowanie sie.png"/>
            <p:cNvPicPr/>
            <p:nvPr/>
          </p:nvPicPr>
          <p:blipFill>
            <a:blip r:embed="rId4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upa 17"/>
          <p:cNvGrpSpPr/>
          <p:nvPr/>
        </p:nvGrpSpPr>
        <p:grpSpPr>
          <a:xfrm>
            <a:off x="0" y="0"/>
            <a:ext cx="8200080" cy="6858000"/>
            <a:chOff x="0" y="0"/>
            <a:chExt cx="8200080" cy="6858000"/>
          </a:xfrm>
        </p:grpSpPr>
        <p:pic>
          <p:nvPicPr>
            <p:cNvPr id="146" name="Obraz 14" descr="g.jpg"/>
            <p:cNvPicPr/>
            <p:nvPr/>
          </p:nvPicPr>
          <p:blipFill>
            <a:blip r:embed="rId2"/>
            <a:srcRect l="0" t="0" r="21200" b="0"/>
            <a:stretch/>
          </p:blipFill>
          <p:spPr>
            <a:xfrm>
              <a:off x="0" y="0"/>
              <a:ext cx="428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Prostokąt 16"/>
            <p:cNvSpPr/>
            <p:nvPr/>
          </p:nvSpPr>
          <p:spPr>
            <a:xfrm>
              <a:off x="4180320" y="1628640"/>
              <a:ext cx="40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Jak rozpoznać zachowania asertywne?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1"/>
          <p:cNvSpPr/>
          <p:nvPr/>
        </p:nvSpPr>
        <p:spPr>
          <a:xfrm>
            <a:off x="4067280" y="236088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Język ciała </a:t>
            </a:r>
            <a:r>
              <a:rPr b="1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osoby asertywnej</a:t>
            </a:r>
            <a:r>
              <a:rPr b="0" lang="pl-PL" sz="1800" spc="-1" strike="noStrike">
                <a:solidFill>
                  <a:srgbClr val="7d60a0"/>
                </a:solidFill>
                <a:latin typeface="Times New Roman CE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"/>
              </a:rPr>
              <a:t>to wyprostowana postawa, szukanie kontaktu wzrokowego, ale nie uporczywe wpatrywanie się.  Ręce i ramiona otwarte. Nie czuje zażenowania, jeśli słyszy komplementy na swój temat. Osoba asertywna mówi otwarcie na temat własnych odczuć, życzeń i potrzeb. Szanuje własne prawa, nie raniąc przy tym innych. Ma poczucie własnej wartości. Potrafi słuchać i jest gotowa do ustępstw, ale potrafi też odmawiać. Innych ludzi traktuje zgodnie z przysłowiem „Nie rób drugiemu, co tobie niemił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upa 11"/>
          <p:cNvGrpSpPr/>
          <p:nvPr/>
        </p:nvGrpSpPr>
        <p:grpSpPr>
          <a:xfrm>
            <a:off x="8675640" y="571680"/>
            <a:ext cx="468360" cy="6286320"/>
            <a:chOff x="8675640" y="571680"/>
            <a:chExt cx="468360" cy="6286320"/>
          </a:xfrm>
        </p:grpSpPr>
        <p:sp>
          <p:nvSpPr>
            <p:cNvPr id="150" name="pole tekstowe 10"/>
            <p:cNvSpPr/>
            <p:nvPr/>
          </p:nvSpPr>
          <p:spPr>
            <a:xfrm rot="5400000">
              <a:off x="6015600" y="3729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</a:rPr>
                <a:t>KOMUNIKOWANIE SI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Obraz 10" descr="sowa_1-komunikowanie sie.png"/>
            <p:cNvPicPr/>
            <p:nvPr/>
          </p:nvPicPr>
          <p:blipFill>
            <a:blip r:embed="rId3"/>
            <a:stretch/>
          </p:blipFill>
          <p:spPr>
            <a:xfrm>
              <a:off x="8675640" y="571680"/>
              <a:ext cx="46836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22:14:24Z</dcterms:created>
  <dc:creator>tfigurska</dc:creator>
  <dc:description/>
  <dc:language>en-US</dc:language>
  <cp:lastModifiedBy>Marta</cp:lastModifiedBy>
  <dcterms:modified xsi:type="dcterms:W3CDTF">2013-01-31T18:32:19Z</dcterms:modified>
  <cp:revision>295</cp:revision>
  <dc:subject/>
  <dc:title>3. Wiedza o gospodarce</dc:title>
</cp:coreProperties>
</file>